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7EF0-937E-4681-AE18-718125061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DF74-7CD7-4645-844B-A271DFBB4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14B-B856-44B1-950A-A50159D6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D18-BE5C-464D-A8C8-5D02518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11D-38B2-48D4-82F8-78A48629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55A-1B37-49A3-A117-30B3E73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DDF7-BBCC-491A-A71D-D95C115C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6971-E6DA-4006-ADBF-D36A72A8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AA2-F5E6-4FCA-A77F-3470D55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4CB2-55BF-440D-B628-4B6C2BD4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B711-2A32-4F58-BDA7-BF98CE5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0DFB-9926-4A8A-9477-03FFE75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FD4-90E5-470B-8722-4F1FE18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D9-5293-4172-8B5A-3988E38A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4CB-073A-474A-AA51-FF1A4F1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B0C-ACF1-4A22-9A8D-52EB1C6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CC3-C8D8-4DB8-BB0A-0C585759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5B7E-BAB7-4E85-971E-1721FD75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43E5-AF51-44FC-B17D-DC8943EC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5136-AA6A-4114-935C-11E1E0B7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4958-C7C6-415C-AB26-664D8E29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946F-DED9-4568-AF1E-DD9520C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BB39-EFE0-4609-8B2E-9361A9A8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3429-7F8F-46B1-B4E4-7B6701E6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57A-2748-4F36-A282-1276A42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F9EA-BACF-4ADD-9159-77ACD61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0F50-FC83-4188-8B73-AC4D288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A8CB-B1B5-4FBA-837D-5A9219D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90D2-058E-4C93-9AD6-D63ECC8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828B-1AF2-4677-B35D-5E819F33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48C2-ABA4-4707-890C-217A593C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E230-6286-400B-8D36-4A95BFDA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EA56-4D42-4071-9E32-79C72B02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2457-8D0B-4B8C-927A-E8942BCF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9EAB-BC07-4936-B2AE-9DBA8917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C4E-1C0F-48C5-A7A5-C123A95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84E0-8F99-4509-805B-084869E5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BF93-30F1-40F9-8380-7768AEE7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136C-8544-45C2-B96A-FD72FD1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D95E-236E-401F-ABB2-14CE490D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B338-7FF1-4D33-A4FC-717F1ED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2658-25FA-43C4-901C-BA512AF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1731-0F99-4690-A0BB-523616C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03B3-DE0E-4C3F-A418-9855CF19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8C43-F107-4958-988B-9574BE8B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932-1E5C-4843-9BA0-37AF68C2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BDD-0B04-43A0-ACE4-AC656290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342-D6B1-4489-9949-CAC30E9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9E4-464E-4600-80BD-1600766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8EB-A3C8-4DB2-9330-740EED6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52C-DFFA-4210-9D80-112E2179AE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75F-5925-48B3-8FCB-530F806FDBB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040-7CA5-4899-A9EE-386835D1D5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986-3877-40C4-B5A8-16CE47032EB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ussian Econom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kerdilaid Ho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entral School, December 20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resourc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uxite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Gold, Co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ron, Le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atural g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etroli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in, Zin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81280" y="1599840"/>
            <a:ext cx="511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Gold is one of Russia top sourc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C:\Users\cool\AppData\Local\Microsoft\Windows\Temporary Internet Files\Content.IE5\2IUTAM3Y\MP900289272[1].jpg"/>
          <p:cNvPicPr/>
          <p:nvPr/>
        </p:nvPicPr>
        <p:blipFill>
          <a:blip r:embed="rId1"/>
          <a:stretch/>
        </p:blipFill>
        <p:spPr>
          <a:xfrm>
            <a:off x="4572000" y="2209680"/>
            <a:ext cx="30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Russia industr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6908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7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ndustrial production growth  rate 13.1%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tals are used to make advanced air crafts, ships , missiles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Defensive technology include- radars, and advanced electronics components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l and scientific industry include- textiles ,handicrafts ,foodstuff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Road and rail transportation include- communication equipment, tractors, agriculture machinery, and construction equipment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MS900074858[1].wav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cool\AppData\Local\Microsoft\Windows\Temporary Internet Files\Content.IE5\2IUTAM3Y\MP900390146[1].jpg"/>
          <p:cNvPicPr/>
          <p:nvPr/>
        </p:nvPicPr>
        <p:blipFill>
          <a:blip r:embed="rId2"/>
          <a:stretch/>
        </p:blipFill>
        <p:spPr>
          <a:xfrm>
            <a:off x="5105520" y="1752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7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Moscow reg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cow  is Russia economic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argest transportation h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actories are focused on heavy industri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opulation  10,470,318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4800" y="1447560"/>
            <a:ext cx="5111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C:\Users\cool\AppData\Local\Microsoft\Windows\Temporary Internet Files\Content.IE5\04V09QGG\MC900101208[1].wmf"/>
          <p:cNvPicPr/>
          <p:nvPr/>
        </p:nvPicPr>
        <p:blipFill>
          <a:blip r:embed="rId1"/>
          <a:stretch/>
        </p:blipFill>
        <p:spPr>
          <a:xfrm>
            <a:off x="3962520" y="2286000"/>
            <a:ext cx="4671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530280" y="1311120"/>
            <a:ext cx="7864560" cy="2505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9:15:47Z</dcterms:created>
  <dc:creator>cool</dc:creator>
  <dc:description/>
  <dc:language>en-US</dc:language>
  <cp:lastModifiedBy>cool</cp:lastModifiedBy>
  <dcterms:modified xsi:type="dcterms:W3CDTF">2010-12-19T21:48:53Z</dcterms:modified>
  <cp:revision>17</cp:revision>
  <dc:subject/>
  <dc:title>Economy</dc:title>
</cp:coreProperties>
</file>